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F5AF-A513-489C-8BD6-CB12D6110CF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B2C3-FEFA-40E9-80B0-87C05C5B16C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MS PGothic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egnaposto numero diapositiva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4B25-A107-4C99-BBFD-2C53D8F1D17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17D0-82DC-4531-9B16-55D5DD8AE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7F4C-7EE5-44E1-8C86-A60C39AE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A2DE-1BEB-4268-9F02-032EB093A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07EE-A725-4DD5-B8DD-B2DBBD352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AC36-63D0-4299-96E6-42C9AC7E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9091D-17FE-456E-AC43-114400012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A239-0CA1-4E20-B7C3-ECB6D712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8ED5-BD97-44B7-B922-2F506548A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791D-8445-4428-8DE7-EBAA65A3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8BA5-EF02-4808-ADDB-8A4FFF3D9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D39-DA01-4B0F-81D4-C329C425F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C2D-6EE6-4B08-AD68-62CB6E190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091AA-C129-4804-80DA-EE89E5911912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34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icerche sullo sviluppo di varie tipi di nozioni (sociali, fisiche, biologiche, aritmetiche, morali)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223920" y="1231920"/>
            <a:ext cx="8462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ogni ciclo scolastic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prevedono le linee gui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ali sono le concezioni in quella fascia di età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insegna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Scuola dell’infanz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Quali sono le  strutture concettuali pertinen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omìnio mo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sicologia ingenua” o “teoria della ment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oscenza della società (attività e ruoli economici e politic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sellaDiTesto 1"/>
          <p:cNvSpPr/>
          <p:nvPr/>
        </p:nvSpPr>
        <p:spPr>
          <a:xfrm>
            <a:off x="307800" y="1227240"/>
            <a:ext cx="4191120" cy="55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Cosa prevedono le linee guid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dentità  propria e altrui, somiglianze e differenze tra persone,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rispetto di sé e degli alt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Esplorazione  dell’ambient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aturale e quello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 uma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tteggiamenti di curiosità, interesse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, rispett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tutte le forme di vita e per i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 beni comun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onoscenze su regole e moralit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-360" y="1611000"/>
            <a:ext cx="4505400" cy="496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MS PGothic"/>
              </a:rPr>
              <a:t>Conoscenze dei bambin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Distinzione tra regole morali (es. non picchiare) e convenzionali (riporre giocattoli al loro post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Idea di una sfera personale in cui le autorità non si devono intromett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s: come vestirsi, pettinar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05400" y="1417680"/>
            <a:ext cx="444024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Interventi educ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iutare  i bambini 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acquisire una nozione di reciprocità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Mettersi nei panni dell</a:t>
            </a:r>
            <a:r>
              <a:rPr b="0" lang="ja-JP" sz="19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altro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(interventi di tipo “induttivo” quando commettono una trasgressione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pire gli effetti sull’altro delle proprie azion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8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Arial"/>
              </a:rPr>
              <a:t>Regolare i conflitti  (agendo come mediatore imparziale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sentire l’esercizio dell’autonomia nella sfera pers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457200" y="56800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mmagine 7" descr="Nucci.jpg"/>
          <p:cNvPicPr/>
          <p:nvPr/>
        </p:nvPicPr>
        <p:blipFill>
          <a:blip r:embed="rId1"/>
          <a:stretch/>
        </p:blipFill>
        <p:spPr>
          <a:xfrm>
            <a:off x="5135400" y="1417680"/>
            <a:ext cx="3213360" cy="44085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8"/>
          <p:cNvSpPr/>
          <p:nvPr/>
        </p:nvSpPr>
        <p:spPr>
          <a:xfrm>
            <a:off x="228600" y="196992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Fonte: Nucci, L. 2002.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Educare il pensiero moral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Trento: Erickson. (ed. orig. 200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10600" y="4779720"/>
            <a:ext cx="403884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E’ esaurito, lo trovate solo nelle bibliotech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75960" y="392040"/>
            <a:ext cx="779292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oscenze sulla società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871200" y="1909440"/>
            <a:ext cx="400212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bambini non capiscono il funzionamento del 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denar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oscono pochi ruoli lavorativi (insegnanti, medici, vigili, parrucchieri, guidatori autobus…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oscono poco la produzione di be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oscenza di pochi ruoli politici (presidente, re, regina..) da televisione e favo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CasellaDiTesto 4"/>
          <p:cNvSpPr/>
          <p:nvPr/>
        </p:nvSpPr>
        <p:spPr>
          <a:xfrm>
            <a:off x="5284800" y="1481040"/>
            <a:ext cx="3343320" cy="2838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fatto che la gente svolga varie attività viene spiegato in termini </a:t>
            </a:r>
            <a:r>
              <a:rPr b="1" lang="it-IT" sz="2000" spc="-1" strike="noStrike">
                <a:solidFill>
                  <a:srgbClr val="ff6600"/>
                </a:solidFill>
                <a:latin typeface="Arial"/>
              </a:rPr>
              <a:t>di psicologia ingenu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vogliono,  devono, serve per raggiungere certi fini, come portare in giro la gente o curarl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CasellaDiTesto 5"/>
          <p:cNvSpPr/>
          <p:nvPr/>
        </p:nvSpPr>
        <p:spPr>
          <a:xfrm>
            <a:off x="708120" y="5964120"/>
            <a:ext cx="8435880" cy="10087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stinzione tra lavoro e non lavoro  sulla base di autonomia, sforzo e piacere, assente o poco sviluppata l’idea di lavoro come attività retribuita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ttangolo 6"/>
          <p:cNvSpPr/>
          <p:nvPr/>
        </p:nvSpPr>
        <p:spPr>
          <a:xfrm>
            <a:off x="4371840" y="4361040"/>
            <a:ext cx="4572000" cy="1313640"/>
          </a:xfrm>
          <a:prstGeom prst="rect">
            <a:avLst/>
          </a:prstGeom>
          <a:noFill/>
          <a:ln w="5724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i nozioni fondamentali per la costruzione di nozioni politic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ole convenzionali, autorità e sua giurisdizione, sfera pers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Conoscenza della societ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461600"/>
            <a:ext cx="4038480" cy="50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Concezioni dei bamb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carsa conoscenza del lavo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nca l’idea di di lavoro come attività retribui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carse conoscenze della produzi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carsa conoscenza del dena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ssuna idea di ruoli e istituzioni politich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108320" y="1417680"/>
            <a:ext cx="48960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Come interven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24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ar conoscere alcuni servizi e attività produttive attraverso discussioni, video, visite d’ambiente, descrizioni fatte da genit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ttere in atto alcune di queste attività mediante il gioco  socio-drammatico (che favorisce anche l’autoregolazio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trodurre la nozione di bene comune con riferimento a spazi e materiali della scuola (ed eventualmente esterni: parchi, strad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7840" y="572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Esempi di gioco sociodrammatico su servizi e lavo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CasellaDiTesto 2"/>
          <p:cNvSpPr/>
          <p:nvPr/>
        </p:nvSpPr>
        <p:spPr>
          <a:xfrm>
            <a:off x="596880" y="3664080"/>
            <a:ext cx="7473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ttps://www.youtube.com/watch?v=1QwYlZK6l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 Train Station - A Child-Created, Teacher-Facilitated Dramatic Play Center (6 minut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sellaDiTesto 4"/>
          <p:cNvSpPr/>
          <p:nvPr/>
        </p:nvSpPr>
        <p:spPr>
          <a:xfrm>
            <a:off x="596880" y="2390760"/>
            <a:ext cx="7116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ttps://www.youtube.com/watch?v=zuUjeNl9T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 Garden Center - A Child-Created, Teacher Modeled Dramatic Play Center  (5 minut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sellaDiTesto 1"/>
          <p:cNvSpPr/>
          <p:nvPr/>
        </p:nvSpPr>
        <p:spPr>
          <a:xfrm>
            <a:off x="596880" y="4987800"/>
            <a:ext cx="808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ttps://www.youtube.com/watch?v=xXqyum4YeE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he Bakery - Supporting Children to Succeed in the Dramatic Play Center (5 minu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623960"/>
            <a:ext cx="528480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ul gioco socio-drammatico come strumento didattico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 e più in generale sull’approccio vygotkijano all’istruzione) potete scaricare gratui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Immagine 2" descr="tools of mind.jpg"/>
          <p:cNvPicPr/>
          <p:nvPr/>
        </p:nvPicPr>
        <p:blipFill>
          <a:blip r:embed="rId1"/>
          <a:stretch/>
        </p:blipFill>
        <p:spPr>
          <a:xfrm>
            <a:off x="5284800" y="0"/>
            <a:ext cx="3859200" cy="4836960"/>
          </a:xfrm>
          <a:prstGeom prst="rect">
            <a:avLst/>
          </a:prstGeom>
          <a:ln w="0">
            <a:noFill/>
          </a:ln>
        </p:spPr>
      </p:pic>
      <p:sp>
        <p:nvSpPr>
          <p:cNvPr id="108" name="Rettangolo 3"/>
          <p:cNvSpPr/>
          <p:nvPr/>
        </p:nvSpPr>
        <p:spPr>
          <a:xfrm>
            <a:off x="168120" y="5110200"/>
            <a:ext cx="897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ttps://www.researchgate.net/publication/31663781_Tools_of_the_Mind_Vygotskian_approach_to_early_childhood_education_E_Bodrova_DJ_Leo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CasellaDiTesto 12"/>
          <p:cNvSpPr/>
          <p:nvPr/>
        </p:nvSpPr>
        <p:spPr>
          <a:xfrm>
            <a:off x="727200" y="819000"/>
            <a:ext cx="7356240" cy="57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a i bambini che  gli  adulti possiedono delle concezioni organizzate in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stemi o strutture concettuali (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domìni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teorie ingenue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formati da concetti interconnessi alcuni dei quali occupano una posizione "centrale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Esemp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Biologi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“ingenua”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vita o essere viv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isic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oggetto e sue proprietà (occupare uno spazio, esistere anche quando non lo si vede, cadere se privo di sostegno, muoversi con una certa traiettoria se lanciato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Moral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bene/male, giusto/ingiu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ritmetic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numeri e opera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sicologi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credenze, desideri, emozion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olitic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S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Economi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: Sistema econom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50560"/>
            <a:ext cx="8229600" cy="18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Primo ciclo di istruzione</a:t>
            </a:r>
            <a:br>
              <a:rPr sz="4400"/>
            </a:b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Scuola primaria e secondaria di primo gr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CasellaDiTesto 3"/>
          <p:cNvSpPr/>
          <p:nvPr/>
        </p:nvSpPr>
        <p:spPr>
          <a:xfrm>
            <a:off x="652320" y="2482920"/>
            <a:ext cx="77137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Cosa prevedono le linee guida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oscere l'organizzazione dello Stato italiano (Regioni, Comuni, città metropolitane) e i principi  sanciti dalla Costituzi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danno indicazioni sulla distribuzione dei contenuti   nei vari anni scol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6/7 anni</a:t>
            </a:r>
            <a:br>
              <a:rPr sz="2800"/>
            </a:br>
            <a:r>
              <a:rPr b="0" i="1" lang="it-IT" sz="2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nizi della comprensione economica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udimentale comprensione di denaro e lavoro (attività retribuit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occupazioni conosciute vengono rappresentate come lavoro autonomo (pagato direttamente da client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ca l’idea di una organizzazione gerarchica (e quindi anche di Stat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2240" y="187200"/>
            <a:ext cx="7761240" cy="157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7</a:t>
            </a:r>
            <a:r>
              <a:rPr b="0" lang="it-IT" sz="3600" spc="-1" strike="noStrike">
                <a:solidFill>
                  <a:srgbClr val="000000"/>
                </a:solidFill>
                <a:latin typeface="Calibri"/>
              </a:rPr>
              <a:t>-10 anni</a:t>
            </a:r>
            <a:br>
              <a:rPr sz="3600"/>
            </a:b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comprensione di elementari organizzazioni gerarchich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182600" y="2017440"/>
            <a:ext cx="58024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dea di lavoro dipendente (capo-dipend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dea di “ruolo politico” (persona importante che “comanda)” (Connell, 197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utorità politiche non differenziate da “capi” o “padroni” priva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eggi intese come divie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11-12</a:t>
            </a:r>
            <a:br>
              <a:rPr sz="2900"/>
            </a:b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Emergere del dominio concettuale politico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182240" y="2017440"/>
            <a:ext cx="3281400" cy="290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Distinzione tra cariche con poteri e giurisdizioni dive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Gerarchie di comando (presidente – sindaco – cittadin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Idee riduttive sulla democraz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sellaDiTesto 5"/>
          <p:cNvSpPr/>
          <p:nvPr/>
        </p:nvSpPr>
        <p:spPr>
          <a:xfrm>
            <a:off x="5284800" y="2017800"/>
            <a:ext cx="3287880" cy="192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Nozione di St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sente di spiegare eventi sociali  (es: guerra, secessione, unione di entità politich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arentesi graffa chiusa 6"/>
          <p:cNvSpPr/>
          <p:nvPr/>
        </p:nvSpPr>
        <p:spPr>
          <a:xfrm>
            <a:off x="4464000" y="2017800"/>
            <a:ext cx="522360" cy="2766960"/>
          </a:xfrm>
          <a:custGeom>
            <a:avLst/>
            <a:gdLst>
              <a:gd name="textAreaLeft" fmla="*/ 0 w 522360"/>
              <a:gd name="textAreaRight" fmla="*/ 188640 w 522360"/>
              <a:gd name="textAreaTop" fmla="*/ 136080 h 2766960"/>
              <a:gd name="textAreaBottom" fmla="*/ 2630880 h 2766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701"/>
                  <a:pt x="10800" y="3401"/>
                </a:cubicBezTo>
                <a:lnTo>
                  <a:pt x="10800" y="7105"/>
                </a:lnTo>
                <a:cubicBezTo>
                  <a:pt x="10800" y="8806"/>
                  <a:pt x="16200" y="10506"/>
                  <a:pt x="21600" y="10506"/>
                </a:cubicBezTo>
                <a:cubicBezTo>
                  <a:pt x="16200" y="10506"/>
                  <a:pt x="10800" y="12207"/>
                  <a:pt x="10800" y="13907"/>
                </a:cubicBezTo>
                <a:lnTo>
                  <a:pt x="10800" y="18199"/>
                </a:lnTo>
                <a:cubicBezTo>
                  <a:pt x="10800" y="19900"/>
                  <a:pt x="5400" y="21600"/>
                  <a:pt x="0" y="21600"/>
                </a:cubicBezTo>
              </a:path>
            </a:pathLst>
          </a:custGeom>
          <a:solidFill>
            <a:srgbClr val="f2f2f2"/>
          </a:solidFill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sellaDiTesto 7"/>
          <p:cNvSpPr/>
          <p:nvPr/>
        </p:nvSpPr>
        <p:spPr>
          <a:xfrm>
            <a:off x="971640" y="4921200"/>
            <a:ext cx="7358040" cy="1618560"/>
          </a:xfrm>
          <a:prstGeom prst="rect">
            <a:avLst/>
          </a:prstGeom>
          <a:noFill/>
          <a:ln w="28440">
            <a:solidFill>
              <a:srgbClr val="e7bb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u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7-8 anni. Scontro armato tra individui privi di organizz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ai 9-10 scontro tra stat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 l’età aumenta il numero di bambini che parlano di dominazione economica o polit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ccia giù 8"/>
          <p:cNvSpPr/>
          <p:nvPr/>
        </p:nvSpPr>
        <p:spPr>
          <a:xfrm>
            <a:off x="6294600" y="4017960"/>
            <a:ext cx="334800" cy="903240"/>
          </a:xfrm>
          <a:prstGeom prst="downArrow">
            <a:avLst>
              <a:gd name="adj1" fmla="val 50000"/>
              <a:gd name="adj2" fmla="val 50022"/>
            </a:avLst>
          </a:prstGeom>
          <a:solidFill>
            <a:srgbClr val="fff4c8"/>
          </a:solidFill>
          <a:ln w="9360">
            <a:solidFill>
              <a:srgbClr val="f7964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149040" y="615960"/>
            <a:ext cx="8777160" cy="60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ullo sviluppo delle conoscenze economiche e politich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: Berti, A.E. 2004. Lo sviluppo della comprensione delle istituzioni economiche e politiche. In R. Vianello e D. Lucangeli (a cura di) "Lo sviluppo delle conoscenze nel bambino" Bergamo: Edizioni Junior, 35- 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https://www.researchgate.net/publication/263445124_Lo_sviluppo_della_comprensione_delle_istituzioni_economiche_e_poli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’esposizione dettagliata delle concezioni economiche dei bambini: Berti, A.E., Bombi, A.S. (1981)  Il mondo economico nel bambino. La Nuova Italia, Firen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https://www.researchgate.net/publication/301229695_Il_mondo_economico_nel_bamb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ul concetto di legg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Berti, A. E. e Guarnaccia, V. (1997)  Lo sviluppo della nozione di norma giuridica. Scuola e Città, 48,  532-5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https://www.researchgate.net/publication/339363089_Lo_sviluppo_della_nozione_di_norma_giurid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457200" y="2347920"/>
            <a:ext cx="8229600" cy="16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Come intervenire nella scuola elementare per favorire la conoscenza delle istituzioni economiche e politich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asellaDiTesto 1"/>
          <p:cNvSpPr/>
          <p:nvPr/>
        </p:nvSpPr>
        <p:spPr>
          <a:xfrm>
            <a:off x="3268800" y="3510000"/>
            <a:ext cx="1755720" cy="315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CasellaDiTesto 2"/>
          <p:cNvSpPr/>
          <p:nvPr/>
        </p:nvSpPr>
        <p:spPr>
          <a:xfrm>
            <a:off x="1606680" y="2050920"/>
            <a:ext cx="65354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l’economia veder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jello, A.M. e Bombi, A.S. 1987.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Studi sociali e conoscenze economiche. Un curricolo di economia per la scuola element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. Firenze: La Nuova Ital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1112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"/>
              </a:rPr>
              <a:t>Possibile curricolo per la il secondo ciclo della scuola elementare</a:t>
            </a:r>
            <a:br>
              <a:rPr sz="3200"/>
            </a:b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(rielaborato, può essere utilizzato nella secondaria di primo grado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5120" y="1915920"/>
            <a:ext cx="8229600" cy="47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biettivo: condurre i bambini al concetto di Stato (con riferimento a quello italiano), partendo dal concetto di reg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stinzione tra regole di educazione  e norme giuridiche, chi fa le seconde (discussione e tabellon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versi tipi di norme giuridic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e “proibiscon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e “comandano (es:, di mandare i bambini a scuola,  pagare adeguatamente chi lavora, dargli le feri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e organizzano (es: come devono funzionare le scu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7200" y="816120"/>
            <a:ext cx="8499600" cy="59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26880" indent="-3268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sa serve per far funzionare le  norme giuridiche  (poliziotti, giudici, medici, insegnanti, medici, chi costruisce scuole, strade, ospedali) e  da dove vengono in soldi per pagarle (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tass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4. Chi fa le  leggi (norme giuridiche più importanti). Parlamento ed elezioni. Ministri per far funzionare le leggi. Presidente della Repubblic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5. Cosa fanno i ministri. Denominazione di alcuni,  ed esempio Interno,   Economia e Finanze, Istruzione.   Articolazioni del Ministero dell’Istruzione  (fino al dirigente scolastico). Decreti ministeria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6. Definizione di Stato (territori con leggi, parlamenti e ministri diversi. Confini geografici e differenze tra carte geografiche fisiche e politich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7. Principali norme giuridiche (relative ai rapporti tra persone, ai reati, al funzionamento dello Stato  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6880" indent="-3268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873680" y="1641240"/>
            <a:ext cx="3813120" cy="19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re sovrano di un governo su un territorio e i suoi abit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417320"/>
            <a:ext cx="4038480" cy="31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stema econom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ieme di soggetti che si organizzano per risolvere tra loro i problemi della produzione e dello scambio di beni atti a soddisfare i bisogni umani.(Zamagni, 1991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59984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09560" indent="-70956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dice civile (famiglia, successione, proprietà, rapporti tra banche e clienti, datore di lavoro dipendent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9560" indent="-70956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9560" indent="-70956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9. Cosa fanno giudici e avvoc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9560" indent="-70956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9560" indent="-70956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0. Codice pen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9560" indent="-70956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9560" indent="-70956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0. Codice della s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9560" indent="-70956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9560" indent="-70956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1. Diritto pubblico (riguarda l’organizzazione dello stato, e i suoi rapporti con i cittadini) e Costit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9560" indent="-70956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09560" indent="-709560">
              <a:spcBef>
                <a:spcPts val="49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2. Regioni, città metropolitane, regioni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Scuola secondaria di secondo gr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50600"/>
            <a:ext cx="82296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e forme di governo e il concetto di diritti universali dovrebbero essere trattati nell’ambito di Storia e, nelle scuole che ne prevedono l’insegnamento, del Diritto, Economia e Filosof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nozione di diritti dovrebbe essere collegata alla conoscenza delle istituzioni a cui è proposta la loro tutela e promozione, e delle politiche necessarie per attuarli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eni pubblici, bilancio dello stato e tasse (esame di quali sono i servizi di cui gli studenti e le loro famiglie fruiscon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5120" y="36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abella sulla ripartizione delle spese del governo americano presente in una unità didattica sulla cittadinanza responsabile per ragazzi di Middle School (scuola  media di primo grado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Segnaposto contenuto 3" descr=""/>
          <p:cNvPicPr/>
          <p:nvPr/>
        </p:nvPicPr>
        <p:blipFill>
          <a:blip r:embed="rId1"/>
          <a:srcRect l="0" t="9997" r="0" b="9997"/>
          <a:stretch/>
        </p:blipFill>
        <p:spPr>
          <a:xfrm>
            <a:off x="457200" y="204804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355680" y="1954080"/>
            <a:ext cx="8069040" cy="28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Gli obiettivi dell’insegnamento dell’educazione civica possono essere in conflitto con quelli dell’educazione finanziaria (a seconda di come viene realizzata), come illustrano alcuni materiali diffusi a questo sco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63DEC-6CC8-4281-A18A-77AF82D9F878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Immagine 4" descr=""/>
          <p:cNvPicPr/>
          <p:nvPr/>
        </p:nvPicPr>
        <p:blipFill>
          <a:blip r:embed="rId1"/>
          <a:stretch/>
        </p:blipFill>
        <p:spPr>
          <a:xfrm>
            <a:off x="4843440" y="861840"/>
            <a:ext cx="3903840" cy="4816800"/>
          </a:xfrm>
          <a:prstGeom prst="rect">
            <a:avLst/>
          </a:prstGeom>
          <a:ln w="0">
            <a:noFill/>
          </a:ln>
        </p:spPr>
      </p:pic>
      <p:sp>
        <p:nvSpPr>
          <p:cNvPr id="140" name="CasellaDiTesto 5"/>
          <p:cNvSpPr/>
          <p:nvPr/>
        </p:nvSpPr>
        <p:spPr>
          <a:xfrm>
            <a:off x="0" y="538200"/>
            <a:ext cx="4344840" cy="5214600"/>
          </a:xfrm>
          <a:prstGeom prst="rect">
            <a:avLst/>
          </a:prstGeom>
          <a:noFill/>
          <a:ln w="93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Impiegare i propri risparmi per cercare di trarne un guadagn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per migliorare le proprie condizioni [</a:t>
            </a:r>
            <a:r>
              <a:rPr b="0" lang="mr-IN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] è l’idea che sta alla base dell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’economi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di tutte le nostre  società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utile, e anche divertente, provare fin da giovanissimi a immaginare come potremmo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impiegare il nostro denaro per farlo aumentare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, considerando possibilità e rischi. (p. 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CasellaDiTesto 4"/>
          <p:cNvSpPr/>
          <p:nvPr/>
        </p:nvSpPr>
        <p:spPr>
          <a:xfrm>
            <a:off x="860400" y="4048200"/>
            <a:ext cx="6854760" cy="2654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rricchendo e collegando i concetti  “corretti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ggendo, sostituendo  o prevenendo quelli err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ruendo strutture concettuali assenti partendo da concetti preesiste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sellaDiTesto 2"/>
          <p:cNvSpPr/>
          <p:nvPr/>
        </p:nvSpPr>
        <p:spPr>
          <a:xfrm>
            <a:off x="860400" y="1195560"/>
            <a:ext cx="7245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L’insegnamento ha l’obiettivo di modificare queste strutture concettu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Segnaposto contenuto 5"/>
          <p:cNvSpPr/>
          <p:nvPr/>
        </p:nvSpPr>
        <p:spPr>
          <a:xfrm>
            <a:off x="243000" y="1411200"/>
            <a:ext cx="808668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u concezioni degli studenti e insegnamen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Berti, A. E. 2002. Cambiamento concettuale e insegnamento,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Scuola e Città,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52(1), 19-3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Arial"/>
              </a:rPr>
              <a:t>https://www.researchgate.net/publication/346444488_Cambiamento_concettuale_e_inseg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CasellaDiTesto 7"/>
          <p:cNvSpPr/>
          <p:nvPr/>
        </p:nvSpPr>
        <p:spPr>
          <a:xfrm>
            <a:off x="457200" y="2116080"/>
            <a:ext cx="4173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percorso che porti dalle concezioni iniziali dei discenti  a quelle che costituiscono l’obiettivo dell’insegna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uppo 22"/>
          <p:cNvGrpSpPr/>
          <p:nvPr/>
        </p:nvGrpSpPr>
        <p:grpSpPr>
          <a:xfrm>
            <a:off x="412920" y="5938920"/>
            <a:ext cx="8561160" cy="825480"/>
            <a:chOff x="412920" y="5938920"/>
            <a:chExt cx="8561160" cy="825480"/>
          </a:xfrm>
        </p:grpSpPr>
        <p:sp>
          <p:nvSpPr>
            <p:cNvPr id="57" name="CasellaDiTesto 8"/>
            <p:cNvSpPr/>
            <p:nvPr/>
          </p:nvSpPr>
          <p:spPr>
            <a:xfrm>
              <a:off x="412920" y="5938920"/>
              <a:ext cx="2836800" cy="8254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Scuola dell’infanzia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CasellaDiTesto 9"/>
            <p:cNvSpPr/>
            <p:nvPr/>
          </p:nvSpPr>
          <p:spPr>
            <a:xfrm>
              <a:off x="3995280" y="5938920"/>
              <a:ext cx="4978800" cy="45972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ermine della scuola dell’obbli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ccia destra 10"/>
            <p:cNvSpPr/>
            <p:nvPr/>
          </p:nvSpPr>
          <p:spPr>
            <a:xfrm>
              <a:off x="3473640" y="5938920"/>
              <a:ext cx="485640" cy="461880"/>
            </a:xfrm>
            <a:prstGeom prst="rightArrow">
              <a:avLst>
                <a:gd name="adj1" fmla="val 50000"/>
                <a:gd name="adj2" fmla="val 49958"/>
              </a:avLst>
            </a:prstGeom>
            <a:solidFill>
              <a:srgbClr val="ff0000"/>
            </a:solidFill>
            <a:ln w="9360">
              <a:solidFill>
                <a:srgbClr val="4a7ebb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CasellaDiTesto 11"/>
          <p:cNvSpPr/>
          <p:nvPr/>
        </p:nvSpPr>
        <p:spPr>
          <a:xfrm>
            <a:off x="4630680" y="2575080"/>
            <a:ext cx="179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Coe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(coeren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Calibri"/>
              </a:rPr>
              <a:t>Progressione di apprendimento</a:t>
            </a:r>
            <a:r>
              <a:rPr b="0" lang="it-IT" sz="44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it-IT" sz="4000" spc="-1" strike="noStrike">
                <a:solidFill>
                  <a:srgbClr val="000000"/>
                </a:solidFill>
                <a:latin typeface="Calibri"/>
              </a:rPr>
              <a:t>learning progression</a:t>
            </a:r>
            <a:r>
              <a:rPr b="0" lang="it-IT" sz="4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Gruppo 20"/>
          <p:cNvGrpSpPr/>
          <p:nvPr/>
        </p:nvGrpSpPr>
        <p:grpSpPr>
          <a:xfrm>
            <a:off x="6103440" y="1919160"/>
            <a:ext cx="2281680" cy="838080"/>
            <a:chOff x="6103440" y="1919160"/>
            <a:chExt cx="2281680" cy="838080"/>
          </a:xfrm>
        </p:grpSpPr>
        <p:sp>
          <p:nvSpPr>
            <p:cNvPr id="63" name="CasellaDiTesto 2"/>
            <p:cNvSpPr/>
            <p:nvPr/>
          </p:nvSpPr>
          <p:spPr>
            <a:xfrm>
              <a:off x="6629400" y="1919160"/>
              <a:ext cx="1755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Arial"/>
                </a:rPr>
                <a:t>orizzont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" name="Connettore 2 6"/>
            <p:cNvCxnSpPr/>
            <p:nvPr/>
          </p:nvCxnSpPr>
          <p:spPr>
            <a:xfrm flipV="1">
              <a:off x="6103440" y="2390040"/>
              <a:ext cx="525960" cy="3675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</p:grpSp>
      <p:grpSp>
        <p:nvGrpSpPr>
          <p:cNvPr id="65" name="Gruppo 21"/>
          <p:cNvGrpSpPr/>
          <p:nvPr/>
        </p:nvGrpSpPr>
        <p:grpSpPr>
          <a:xfrm>
            <a:off x="6303600" y="3181320"/>
            <a:ext cx="1959480" cy="737640"/>
            <a:chOff x="6303600" y="3181320"/>
            <a:chExt cx="1959480" cy="737640"/>
          </a:xfrm>
        </p:grpSpPr>
        <p:sp>
          <p:nvSpPr>
            <p:cNvPr id="66" name="CasellaDiTesto 12"/>
            <p:cNvSpPr/>
            <p:nvPr/>
          </p:nvSpPr>
          <p:spPr>
            <a:xfrm>
              <a:off x="6748920" y="3459240"/>
              <a:ext cx="151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ff0000"/>
                  </a:solidFill>
                  <a:latin typeface="Arial"/>
                </a:rPr>
                <a:t>vertica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" name="Connettore 2 18"/>
            <p:cNvCxnSpPr/>
            <p:nvPr/>
          </p:nvCxnSpPr>
          <p:spPr>
            <a:xfrm>
              <a:off x="6303600" y="3181320"/>
              <a:ext cx="445320" cy="27828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ttangolo 5"/>
          <p:cNvSpPr/>
          <p:nvPr/>
        </p:nvSpPr>
        <p:spPr>
          <a:xfrm>
            <a:off x="585720" y="590400"/>
            <a:ext cx="7445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uclei tematici dell’Educazione Civica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condo le Linee Gu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sellaDiTesto 6"/>
          <p:cNvSpPr/>
          <p:nvPr/>
        </p:nvSpPr>
        <p:spPr>
          <a:xfrm>
            <a:off x="447840" y="2446200"/>
            <a:ext cx="371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stit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viluppo Sostenib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ittadinanza Digit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sellaDiTesto 7"/>
          <p:cNvSpPr/>
          <p:nvPr/>
        </p:nvSpPr>
        <p:spPr>
          <a:xfrm>
            <a:off x="168120" y="5373720"/>
            <a:ext cx="528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Rispetto (di sé, degli altri, e dell'ambien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asellaDiTesto 8"/>
          <p:cNvSpPr/>
          <p:nvPr/>
        </p:nvSpPr>
        <p:spPr>
          <a:xfrm>
            <a:off x="5303880" y="2144880"/>
            <a:ext cx="283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artengono ad ambiti concettuali divers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CasellaDiTesto 9"/>
          <p:cNvSpPr/>
          <p:nvPr/>
        </p:nvSpPr>
        <p:spPr>
          <a:xfrm>
            <a:off x="5229360" y="4008600"/>
            <a:ext cx="32684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gressioni di apprendimento disti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ccia giù 10"/>
          <p:cNvSpPr/>
          <p:nvPr/>
        </p:nvSpPr>
        <p:spPr>
          <a:xfrm>
            <a:off x="6200640" y="3344760"/>
            <a:ext cx="803520" cy="6638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sellaDiTesto 11"/>
          <p:cNvSpPr/>
          <p:nvPr/>
        </p:nvSpPr>
        <p:spPr>
          <a:xfrm>
            <a:off x="858960" y="2376360"/>
            <a:ext cx="1849320" cy="460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sellaDiTesto 12"/>
          <p:cNvSpPr/>
          <p:nvPr/>
        </p:nvSpPr>
        <p:spPr>
          <a:xfrm>
            <a:off x="4761000" y="5533920"/>
            <a:ext cx="1847880" cy="459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ralit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223920" y="1417320"/>
            <a:ext cx="846288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e costruire una progressione di  apprendimento che abbia come obiettivo finale (scuola secondaria di secondo grad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oscenza dell'ordinamento dello stato italiano organizzazioni internazionali e sovranazionali, principi della Costituzione italiana, carte dei diritt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14:45:31Z</dcterms:created>
  <dc:creator>Anna Emilia  Berti</dc:creator>
  <dc:description/>
  <dc:language>en-US</dc:language>
  <cp:lastModifiedBy>Anna Emilia  Berti</cp:lastModifiedBy>
  <cp:lastPrinted>2020-06-01T16:18:52Z</cp:lastPrinted>
  <dcterms:modified xsi:type="dcterms:W3CDTF">2020-11-30T15:38:37Z</dcterms:modified>
  <cp:revision>184</cp:revision>
  <dc:subject/>
  <dc:title>Lo sviluppo delle nozioni economiche e poltiche nei bambini  </dc:title>
</cp:coreProperties>
</file>